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F7A2-B1E2-49ED-93A2-EF8ABECE6C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9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8648-D810-4F5C-BFE5-F5D95979CD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BF7C-C291-4051-90BF-63D23FFA47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5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9A46-F6BB-4906-8FE9-6BA9302AC0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1553-B8C8-40A5-BB4B-45FE15D824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A9D0-8E7E-4D84-96BC-24A878232E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4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FE84-386F-4755-8E90-422FCE15A0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2C4-DB8E-4B32-A27E-019BB1EC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CB1-5864-4479-99BA-CAEA6EDA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918-55D4-4161-B105-9E52043F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F38-CFC4-46B5-8300-B5DBFE24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60A-64DA-431D-BCBE-AD0A39FD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FDA-BCD5-44FE-8046-16E503E6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BEB-8B22-4906-9362-61F08698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33F-D42F-4E7D-A5C1-12970D72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239-8B01-4A30-A0EC-FDAEC521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674-052B-4AE2-89A4-4C5759F3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52A-3988-46CE-B15E-791B5E00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265-081E-4818-8E79-878F41B9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9F9F-D5E7-4C2C-935B-EA0DE8A861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34920" y="2133720"/>
            <a:ext cx="651348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לגרום לשינוי סביבת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700360" y="2997360"/>
            <a:ext cx="4424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לחסוך בהוצאות החשמ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835280" y="400536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ולהרוויח מזה כסף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מהפיכת החשמל הסולאר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507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יום יותר מתמיד ברור לנו שהעולם הולך לקראת משבר אנרגי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משאבים האנרגטיים בהם השתמשנו עד היום - הנפט, הפחם, הגז, הולכים ונגמרי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כמו כן הם הולכים ומתייקרי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כמעט לכולם ברור שצריך למצו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מקור אנרגיה חדש, שיהיה בלתי מוגב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ובמקביל לא יזהם את הסביבה בה אנו חיי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משבר האנרגי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po4"/>
          <p:cNvPicPr/>
          <p:nvPr/>
        </p:nvPicPr>
        <p:blipFill>
          <a:blip r:embed="rId1"/>
          <a:stretch/>
        </p:blipFill>
        <p:spPr>
          <a:xfrm>
            <a:off x="539640" y="5013360"/>
            <a:ext cx="1871640" cy="14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מזה שנים קו המחשבה העיקרי היה ועודנו שמקור האנרגיה האידיאלי שאנו מחפשים הוא השמש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שמש הינו מקור אנרגיה אינסופי והחשמל המופק ממנה נקי לחלוטין ושומר על איכות הסביבה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אז למה אנחנו כמעט לא משתמשים באנרגיה זו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בגלל  שעד היום הפקת חשמל מהשמש עבו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צרכן הפרטי היתה תהליך מורכב ויקר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אנרגיה מהשמ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sun"/>
          <p:cNvPicPr/>
          <p:nvPr/>
        </p:nvPicPr>
        <p:blipFill>
          <a:blip r:embed="rId1"/>
          <a:stretch/>
        </p:blipFill>
        <p:spPr>
          <a:xfrm>
            <a:off x="539640" y="5013360"/>
            <a:ext cx="1871640" cy="14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ב-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1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ליולי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2008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נכנסה לתוקפה בישראל תקנה חדשה ומהפכנית, המאפשרת לצרכנים פרטיים ומסחריים, להתקין בבית או במפעל לוחות סולאריים ולמכור את עודפי החשמל לחברת החשמל (במחיר גבוה פי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4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מתעריף החשמל הרגיל!)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מה שזה אומר בפועל, שלא רק שאנו חוסכים בהוצאות חשמל ותורמים לסביבה, אלא שאנחנו יכולים לבנות נכס שייתן לנו הכנסה פסיבית מידי חודש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תקנת החשמל הסולאר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p1"/>
          <p:cNvPicPr/>
          <p:nvPr/>
        </p:nvPicPr>
        <p:blipFill>
          <a:blip r:embed="rId1"/>
          <a:stretch/>
        </p:blipFill>
        <p:spPr>
          <a:xfrm>
            <a:off x="539640" y="5013360"/>
            <a:ext cx="1800360" cy="13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ישנן בארץ מספר חברות שעושות את כל התהליך מאוד פשוט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הן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מספקות את המערכות הסולארי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מתקינות אותן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מחברות אותן לחברת החשמל ומסדירות את חוזה מכירת החשמ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מספקות אחזקה ותמיכ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איך עושים? פשוט מאוד</a:t>
            </a: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Solar panel installation low1"/>
          <p:cNvPicPr/>
          <p:nvPr/>
        </p:nvPicPr>
        <p:blipFill>
          <a:blip r:embed="rId1"/>
          <a:stretch/>
        </p:blipFill>
        <p:spPr>
          <a:xfrm>
            <a:off x="539640" y="5013360"/>
            <a:ext cx="1800360" cy="138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עכשיו זה הזמן להתחיל את השינוי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עכשיו זה הזמן להכין עצמנו למשבר האנרגיה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עכשיו זה הזמן להפסיק לזהם את הסביבה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לפרטים נוספים ולרשימת החברות המספקות את השיר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9640" y="4941720"/>
            <a:ext cx="8136000" cy="5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6600"/>
                </a:solidFill>
                <a:latin typeface="Arial"/>
              </a:rPr>
              <a:t>שילחו מצגת זו לכל רשימות התפוצה שלכם, כדי שהמהפיכה הסולארית תגיע במהרה</a:t>
            </a:r>
            <a:r>
              <a:rPr b="1" lang="he-IL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39640" y="5950080"/>
            <a:ext cx="8136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הופץ על ידי "שלח לחמך".           מערכת הפצת הטוב של פרויקט אגורה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yg-transparent"/>
          <p:cNvPicPr/>
          <p:nvPr/>
        </p:nvPicPr>
        <p:blipFill>
          <a:blip r:embed="rId1"/>
          <a:stretch/>
        </p:blipFill>
        <p:spPr>
          <a:xfrm>
            <a:off x="5003640" y="5661000"/>
            <a:ext cx="702000" cy="765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זה בידיים שלנ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995640" y="4149720"/>
            <a:ext cx="1728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Arial"/>
              </a:rPr>
              <a:t>לחצו כא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6:00:18Z</dcterms:created>
  <dc:creator>TSUR</dc:creator>
  <dc:description/>
  <dc:language>en-US</dc:language>
  <cp:lastModifiedBy>ME</cp:lastModifiedBy>
  <dcterms:modified xsi:type="dcterms:W3CDTF">2012-04-29T05:44:00Z</dcterms:modified>
  <cp:revision>29</cp:revision>
  <dc:subject/>
  <dc:title>מהפכת החשמל הסולארי</dc:title>
</cp:coreProperties>
</file>