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B68B-0B30-4E14-A6CD-BACAAEA8FC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9" name="מציין מיקום של מספר שקופית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5630-1035-4F65-B880-D3C5B74686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מציין מיקום של מספר שקופית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53A4-71EC-47E8-B4A7-208BB77696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5" name="מציין מיקום של מספר שקופית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E80C-D620-472E-8300-AE0023E0E7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8" name="מציין מיקום של מספר שקופית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D33B-D724-4CF0-94AA-2D9AC31E9F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" name="מציין מיקום של מספר שקופית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D913-3D1E-4132-95BD-CF013C762A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4" name="מציין מיקום של מספר שקופית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E3AA-9C3A-4847-A01C-EF97B0EE45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3B7-C62E-4B2F-A2ED-276CD637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B2F-3F2C-45F4-B706-E1E12B92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81E-1E39-40FE-B10D-5B876542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F2C-36C3-4033-A1AE-D9F245FD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AB4-68E6-444B-9ED5-B36D0CA3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DA0-5789-442A-BB6A-E647B137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3B3-6390-437A-AC29-A6275C66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F33-5530-4EE7-A0BC-8D7DE84D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EFA-A107-494F-A4D7-9A46ABA6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E52-2B3D-4D59-BC25-242F2B9A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A5E-9E2D-40BA-9191-52B37864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C49-680A-4156-91B8-864F0629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2428-7D5B-443A-9335-CDCB71AFEB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324000" y="333360"/>
            <a:ext cx="8569080" cy="6264360"/>
          </a:xfrm>
          <a:prstGeom prst="rect">
            <a:avLst/>
          </a:prstGeom>
          <a:solidFill>
            <a:srgbClr val="53d214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34920" y="2133720"/>
            <a:ext cx="651348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לגרום לשינוי סביבת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700360" y="2997360"/>
            <a:ext cx="4424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לחסוך בהוצאות החשמ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835280" y="400536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ולהרוויח מזה כסף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00"/>
                </a:solidFill>
                <a:latin typeface="Arial"/>
              </a:rPr>
              <a:t>מהפיכת החשמל הסולאר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24000" y="333360"/>
            <a:ext cx="8569080" cy="6264360"/>
          </a:xfrm>
          <a:prstGeom prst="rect">
            <a:avLst/>
          </a:prstGeom>
          <a:solidFill>
            <a:srgbClr val="53d214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507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היום יותר מתמיד ברור לנו שהעולם הולך לקראת משבר אנרגי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המשאבים האנרגטיים בהם השתמשנו עד היום - הנפט, הפחם, הגז, הולכים ונגמרי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כמו כן הם הולכים ומתייקרי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 כמעט לכולם ברור שצריך למצו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מקור אנרגיה חדש, שיהיה בלתי מוגב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ובמקביל לא יזהם את הסביבה בה אנו חיי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00"/>
                </a:solidFill>
                <a:latin typeface="Arial"/>
              </a:rPr>
              <a:t>משבר האנרגי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po4"/>
          <p:cNvPicPr/>
          <p:nvPr/>
        </p:nvPicPr>
        <p:blipFill>
          <a:blip r:embed="rId1"/>
          <a:stretch/>
        </p:blipFill>
        <p:spPr>
          <a:xfrm>
            <a:off x="539640" y="5013360"/>
            <a:ext cx="1871640" cy="141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24000" y="333360"/>
            <a:ext cx="8569080" cy="6264360"/>
          </a:xfrm>
          <a:prstGeom prst="rect">
            <a:avLst/>
          </a:prstGeom>
          <a:solidFill>
            <a:srgbClr val="53d214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מזה שנים קו המחשבה העיקרי היה ועודנו שמקור האנרגיה האידיאלי שאנו מחפשים הוא השמש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השמש הינו מקור אנרגיה אינסופי והחשמל המופק ממנה נקי לחלוטין ושומר על איכות הסביבה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אז למה אנחנו כמעט לא משתמשים באנרגיה זו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בגלל  שעד היום הפקת חשמל מהשמש עבו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הצרכן הפרטי היתה תהליך מורכב ויקר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00"/>
                </a:solidFill>
                <a:latin typeface="Arial"/>
              </a:rPr>
              <a:t>אנרגיה מהשמ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sun"/>
          <p:cNvPicPr/>
          <p:nvPr/>
        </p:nvPicPr>
        <p:blipFill>
          <a:blip r:embed="rId1"/>
          <a:stretch/>
        </p:blipFill>
        <p:spPr>
          <a:xfrm>
            <a:off x="539640" y="5013360"/>
            <a:ext cx="1871640" cy="14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324000" y="333360"/>
            <a:ext cx="8569080" cy="6264360"/>
          </a:xfrm>
          <a:prstGeom prst="rect">
            <a:avLst/>
          </a:prstGeom>
          <a:solidFill>
            <a:srgbClr val="53d214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ב-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1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 ליולי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2008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 נכנסה לתוקפה בישראל תקנה חדשה ומהפכנית, המאפשרת לצרכנים פרטיים ומסחריים, להתקין בבית או במפעל לוחות סולאריים ולמכור את עודפי החשמל לחברת החשמל (במחיר גבוה פי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4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 מתעריף החשמל הרגיל!)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מה שזה אומר בפועל, שלא רק שאנו חוסכים בהוצאות חשמל ותורמים לסביבה, אלא שאנחנו יכולים לבנות נכס שייתן לנו הכנסה פסיבית מידי חודש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00"/>
                </a:solidFill>
                <a:latin typeface="Arial"/>
              </a:rPr>
              <a:t>תקנת החשמל הסולאר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sp1"/>
          <p:cNvPicPr/>
          <p:nvPr/>
        </p:nvPicPr>
        <p:blipFill>
          <a:blip r:embed="rId1"/>
          <a:stretch/>
        </p:blipFill>
        <p:spPr>
          <a:xfrm>
            <a:off x="539640" y="5013360"/>
            <a:ext cx="1800360" cy="13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324000" y="333360"/>
            <a:ext cx="8569080" cy="6264360"/>
          </a:xfrm>
          <a:prstGeom prst="rect">
            <a:avLst/>
          </a:prstGeom>
          <a:solidFill>
            <a:srgbClr val="53d214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ישנן בארץ מספר חברות שעושות את כל התהליך מאוד פשוט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Davi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הן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Davi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מספקות את המערכות הסולארי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מתקינות אותן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מחברות אותן לחברת החשמל ומסדירות את חוזה מכירת החשמ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מספקות אחזקה ותמיכ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00"/>
                </a:solidFill>
                <a:latin typeface="Arial"/>
              </a:rPr>
              <a:t>איך עושים? פשוט מאוד</a:t>
            </a:r>
            <a:r>
              <a:rPr b="0" lang="he-IL" sz="60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Solar panel installation low1"/>
          <p:cNvPicPr/>
          <p:nvPr/>
        </p:nvPicPr>
        <p:blipFill>
          <a:blip r:embed="rId1"/>
          <a:stretch/>
        </p:blipFill>
        <p:spPr>
          <a:xfrm>
            <a:off x="539640" y="5013360"/>
            <a:ext cx="1800360" cy="138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24000" y="333360"/>
            <a:ext cx="8569080" cy="6264360"/>
          </a:xfrm>
          <a:prstGeom prst="rect">
            <a:avLst/>
          </a:prstGeom>
          <a:solidFill>
            <a:srgbClr val="53d214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עכשיו זה הזמן להתחיל את השינוי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עכשיו זה הזמן להכין עצמנו למשבר האנרגיה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עכשיו זה הזמן להפסיק לזהם את הסביבה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לפרטים נוספים ולרשימת החברות המספקות את השיר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39640" y="4941720"/>
            <a:ext cx="8136000" cy="5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6600"/>
                </a:solidFill>
                <a:latin typeface="Arial"/>
              </a:rPr>
              <a:t>שילחו מצגת זו לכל רשימות התפוצה שלכם, כדי שהמהפיכה הסולארית תגיע במהרה</a:t>
            </a:r>
            <a:r>
              <a:rPr b="1" lang="he-IL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39640" y="5950080"/>
            <a:ext cx="8136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הופץ על ידי "שלח לחמך".           מערכת הפצת הטוב של פרויקט אגורה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syg-transparent"/>
          <p:cNvPicPr/>
          <p:nvPr/>
        </p:nvPicPr>
        <p:blipFill>
          <a:blip r:embed="rId1"/>
          <a:stretch/>
        </p:blipFill>
        <p:spPr>
          <a:xfrm>
            <a:off x="5003640" y="5661000"/>
            <a:ext cx="702000" cy="765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9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00"/>
                </a:solidFill>
                <a:latin typeface="Arial"/>
              </a:rPr>
              <a:t>זה בידיים שלנ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995640" y="4149720"/>
            <a:ext cx="1728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Arial"/>
              </a:rPr>
              <a:t>לחצו כא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6:00:18Z</dcterms:created>
  <dc:creator>TSUR</dc:creator>
  <dc:description/>
  <dc:language>en-US</dc:language>
  <cp:lastModifiedBy>ME</cp:lastModifiedBy>
  <dcterms:modified xsi:type="dcterms:W3CDTF">2012-04-29T05:44:00Z</dcterms:modified>
  <cp:revision>29</cp:revision>
  <dc:subject/>
  <dc:title>מהפכת החשמל הסולארי</dc:title>
</cp:coreProperties>
</file>